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C0F-A436-46C5-859A-95190FC6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39E-286F-4F6D-9AD8-A21FA6AE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C73-8505-4A50-A695-0FED2D2E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D9C-5D5C-4A09-9110-18B196EB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0AF-5A67-4CCD-9BF7-285795D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3CD-B5D2-42CB-A7DA-F3F8D6C6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435-C0C5-4789-8B37-E8F7CF23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E32-A899-4B26-90F3-3C94B937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772-EF1C-40FD-A641-FD937491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B4D-8F4A-444D-957B-F5240E6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68A-8764-446D-B317-AD280F0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22D-2142-4143-B351-5697855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864D-B67D-4245-A512-0DC50D76A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4  Note Guide Solids, liquids and gases, oh 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ates of matter – described based on whether shapes and volumes are fixed o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133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lids = definite shape an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666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ngement of particles at atom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lid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438640" cy="17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3200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ery closely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iqui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te volume, but no definite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iquid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590920" cy="138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1523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 shape of container it i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mo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200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packed, but somewhat l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ases – no definite shape or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as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2274840" cy="196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1219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s shape of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676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not in regular pattern; very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00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very l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657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Plasma –exists at extremely high temperatures (on stars, s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Bose-Einstein condensate –found at temps near –273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00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oups of atoms act as a singl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moving objects have kinetic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676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= energy of moti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057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kinetic theory states that all particles of matter are in CONSTANT mo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819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of the 3 main states of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276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olids = have definite shape and volume bec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ibrate around fixed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attractions of the atoms within keep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419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Liquids = take shape of container because particles flow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locations.  Volume remains constant becaus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s of attraction keep particl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a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of attraction in gases are small, but STI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600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collide with each other,but can’t get away tot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3:35Z</dcterms:created>
  <dc:creator>Farwell Area Schools</dc:creator>
  <dc:description/>
  <dc:language>en-US</dc:language>
  <cp:lastModifiedBy>Farwell Area Schools</cp:lastModifiedBy>
  <dcterms:modified xsi:type="dcterms:W3CDTF">2009-01-21T18:10:03Z</dcterms:modified>
  <cp:revision>5</cp:revision>
  <dc:subject/>
  <dc:title>3-4  Note Guide Solids, liquids and gases, oh my!</dc:title>
</cp:coreProperties>
</file>